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APPLAUSE.WAV" ContentType="audio/x-wav"/>
  <Override PartName="/ppt/media/image5.gif" ContentType="image/gif"/>
  <Override PartName="/ppt/media/image6.gif" ContentType="image/gif"/>
  <Override PartName="/ppt/media/image8.gif" ContentType="image/gif"/>
  <Override PartName="/ppt/media/image9.gif" ContentType="image/gi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video" Target="file:///tmp/home/.config/libreoffice/4/user/gallery/Screeching%20Brake" TargetMode="External"/><Relationship Id="rId3" Type="http://schemas.microsoft.com/office/2007/relationships/media" Target="file:///tmp/home/.config/libreoffice/4/user/gallery/Screeching%20Brake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11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1295280"/>
            <a:ext cx="69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9880" y="754380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7720" y="144792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is is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how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we go to scho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53341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35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76520" y="1523880"/>
            <a:ext cx="53337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819520"/>
            <a:ext cx="1066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16200000">
            <a:off x="-690120" y="2671560"/>
            <a:ext cx="503856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666880" y="990720"/>
            <a:ext cx="5410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bcPrint"/>
              </a:rPr>
              <a:t>The plane went       </a:t>
            </a:r>
            <a:r>
              <a:rPr b="0" lang="en-US" sz="6000" spc="-1" strike="noStrike">
                <a:solidFill>
                  <a:srgbClr val="ff0000"/>
                </a:solidFill>
                <a:latin typeface="AbcPrint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AbcPrint"/>
              </a:rPr>
              <a:t>    </a:t>
            </a:r>
            <a:r>
              <a:rPr b="0" lang="en-US" sz="6000" spc="-1" strike="noStrike">
                <a:solidFill>
                  <a:srgbClr val="ff0000"/>
                </a:solidFill>
                <a:latin typeface="AbcPrint"/>
              </a:rPr>
              <a:t>in the sk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flipH="1" rot="10800000">
            <a:off x="6477120" y="7391160"/>
            <a:ext cx="7776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16200000">
            <a:off x="-919080" y="2671200"/>
            <a:ext cx="503892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65160" y="1371600"/>
            <a:ext cx="586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bcPrint"/>
              </a:rPr>
              <a:t>The plane wen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bcPrint"/>
              </a:rPr>
              <a:t>   </a:t>
            </a:r>
            <a:r>
              <a:rPr b="0" lang="en-US" sz="6000" spc="-1" strike="noStrike">
                <a:solidFill>
                  <a:srgbClr val="3333cc"/>
                </a:solidFill>
                <a:latin typeface="AbcPrint"/>
              </a:rPr>
              <a:t>up</a:t>
            </a:r>
            <a:r>
              <a:rPr b="0" lang="en-US" sz="6000" spc="-1" strike="noStrike">
                <a:solidFill>
                  <a:srgbClr val="ff0000"/>
                </a:solidFill>
                <a:latin typeface="AbcPrint"/>
              </a:rPr>
              <a:t> in the sk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91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09680" y="21337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wi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eac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abou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h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u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34340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 dog  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will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  catch the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red ball</a:t>
            </a: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4343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35268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4343400"/>
            <a:ext cx="64008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 dog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will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catch the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red ball</a:t>
            </a: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89584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4648320"/>
            <a:ext cx="746784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Print"/>
              </a:rPr>
              <a:t>Each </a:t>
            </a:r>
            <a:r>
              <a:rPr b="1" lang="en-US" sz="4400" spc="-1" strike="noStrike">
                <a:solidFill>
                  <a:srgbClr val="3333cc"/>
                </a:solidFill>
                <a:latin typeface="AbcPrint"/>
              </a:rPr>
              <a:t>cat will watch the mous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724280"/>
            <a:ext cx="13716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667240" cy="2846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4648320"/>
            <a:ext cx="746748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Print"/>
              </a:rPr>
              <a:t>Each </a:t>
            </a:r>
            <a:r>
              <a:rPr b="1" lang="en-US" sz="4400" spc="-1" strike="noStrike">
                <a:solidFill>
                  <a:srgbClr val="3333cc"/>
                </a:solidFill>
                <a:latin typeface="AbcPrint"/>
              </a:rPr>
              <a:t>cat will watch the mou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95680" y="7442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251460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5758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5181480"/>
            <a:ext cx="7467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This book is </a:t>
            </a:r>
            <a:r>
              <a:rPr b="0" lang="en-US" sz="5000" spc="-1" strike="noStrike">
                <a:solidFill>
                  <a:srgbClr val="3333cc"/>
                </a:solidFill>
                <a:latin typeface="AbcPrint"/>
              </a:rPr>
              <a:t>about </a:t>
            </a: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letter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525780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2076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5029200"/>
            <a:ext cx="7467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This book is </a:t>
            </a:r>
            <a:r>
              <a:rPr b="0" lang="en-US" sz="5000" spc="-1" strike="noStrike">
                <a:solidFill>
                  <a:srgbClr val="3333cc"/>
                </a:solidFill>
                <a:latin typeface="AbcPrint"/>
              </a:rPr>
              <a:t>about </a:t>
            </a: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let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5000" y="7238880"/>
            <a:ext cx="787320" cy="406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648320" y="75438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981080" y="1676520"/>
            <a:ext cx="221004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724280" y="1676520"/>
            <a:ext cx="228600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72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2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91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533520"/>
            <a:ext cx="72388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This is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how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we go to scho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1676520"/>
            <a:ext cx="11430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41044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1-09T15:59:50Z</dcterms:modified>
  <cp:revision>9</cp:revision>
  <dc:subject/>
  <dc:title>Guess the Covered Word</dc:title>
</cp:coreProperties>
</file>